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7DDA3-7032-4584-B038-E8351064F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B8061-08F2-4B33-B337-A7D815729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4C7DF-E46C-4637-85C5-914F9DB80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9CD8D-A0FF-4478-8930-F57A53925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9CDE7-F1A0-4B6F-8A32-3100A2A46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EF4D3-17D2-4010-B4B1-F57F0B21E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D719C-0102-4253-BE3C-7248DED5B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3C02C-6A4C-4CDB-83A1-290CE8DED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3ED39-33F8-4F6F-8FE8-8D9A5BE14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39B22-A09E-4145-92E6-41A0C5490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1050E-C43A-48A5-BFE3-97720F63D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1BE88-3046-4E16-A297-9F4B5574C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CBB9-DE40-4BAA-A44A-3B9D6A453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28960"/>
            <a:ext cx="9144000" cy="708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i="1" lang="en-US" sz="1600" spc="-1" strike="noStrike">
                <a:solidFill>
                  <a:srgbClr val="000000"/>
                </a:solidFill>
                <a:latin typeface="Arial"/>
              </a:rPr>
              <a:t>Morning Warm- Up!</a:t>
            </a:r>
            <a:br>
              <a:rPr sz="5000"/>
            </a:br>
            <a:r>
              <a:rPr b="0" lang="en-US" sz="6900" spc="-1" strike="noStrike">
                <a:solidFill>
                  <a:srgbClr val="000000"/>
                </a:solidFill>
                <a:latin typeface="Arial"/>
              </a:rPr>
              <a:t>People either live alone or with others.  Animals usually share their space.  When does sharing make sense?</a:t>
            </a:r>
            <a:endParaRPr b="0" lang="en-US" sz="6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152640"/>
            <a:ext cx="8686800" cy="701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1600" spc="-1" strike="noStrike">
                <a:solidFill>
                  <a:srgbClr val="000000"/>
                </a:solidFill>
                <a:latin typeface="Arial"/>
              </a:rPr>
              <a:t>Morning Warm- Up</a:t>
            </a:r>
            <a:br>
              <a:rPr sz="1600"/>
            </a:br>
            <a:r>
              <a:rPr b="0" lang="en-US" sz="5400" spc="-1" strike="noStrike">
                <a:solidFill>
                  <a:srgbClr val="000000"/>
                </a:solidFill>
                <a:latin typeface="Arial"/>
              </a:rPr>
              <a:t>Today we will read about Turtle and Beaver.  We will read about how they compete in a race that is not just for recreation.  What are some times you have been in a ra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04920"/>
            <a:ext cx="8686800" cy="731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i="1" lang="en-US" sz="1200" spc="-1" strike="noStrike">
                <a:solidFill>
                  <a:srgbClr val="000000"/>
                </a:solidFill>
                <a:latin typeface="Arial"/>
              </a:rPr>
              <a:t>Morning Warm- Up!</a:t>
            </a:r>
            <a:br>
              <a:rPr sz="1800"/>
            </a:br>
            <a:r>
              <a:rPr b="0" lang="en-US" sz="5400" spc="-1" strike="noStrike">
                <a:solidFill>
                  <a:srgbClr val="000000"/>
                </a:solidFill>
                <a:latin typeface="Arial"/>
              </a:rPr>
              <a:t>Today we will read about a duck who lays her eggs in an odd place.  The mother duck wants to protect her babies from hazards.  Why might the baby ducks be skittis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i="1" lang="en-US" sz="1200" spc="-1" strike="noStrike">
                <a:solidFill>
                  <a:srgbClr val="000000"/>
                </a:solidFill>
                <a:latin typeface="Arial"/>
              </a:rPr>
              <a:t>Morning Warm- Up!</a:t>
            </a:r>
            <a:br>
              <a:rPr sz="1200"/>
            </a:br>
            <a:r>
              <a:rPr b="0" lang="en-US" sz="6000" spc="-1" strike="noStrike">
                <a:solidFill>
                  <a:srgbClr val="000000"/>
                </a:solidFill>
                <a:latin typeface="Arial"/>
              </a:rPr>
              <a:t>Turtles and beavers live in ponds.  What other things live in ponds?  Today we will read about things that live near ponds as well as things that live under the surface of pond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86800" cy="739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US" sz="1200" spc="-1" strike="noStrike">
                <a:solidFill>
                  <a:srgbClr val="000000"/>
                </a:solidFill>
                <a:latin typeface="Arial"/>
              </a:rPr>
              <a:t>Morning Warm- Up!</a:t>
            </a:r>
            <a:br>
              <a:rPr sz="3400"/>
            </a:br>
            <a:r>
              <a:rPr b="0" lang="en-US" sz="5400" spc="-1" strike="noStrike">
                <a:solidFill>
                  <a:srgbClr val="000000"/>
                </a:solidFill>
                <a:latin typeface="Arial"/>
              </a:rPr>
              <a:t>This week we read about animasl and people who didn’t want to share their ponds, decks, and rooms.  Then things usually got easier.  How do you usually feel when you shar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2:11:12Z</dcterms:created>
  <dc:creator> </dc:creator>
  <dc:description/>
  <dc:language>en-US</dc:language>
  <cp:lastModifiedBy>Laura McDow</cp:lastModifiedBy>
  <dcterms:modified xsi:type="dcterms:W3CDTF">2010-09-21T15:07:59Z</dcterms:modified>
  <cp:revision>41</cp:revision>
  <dc:subject/>
  <dc:title> Morning Warm- Up! The cat needs some water.  The dog wants a bone.  That bird lives in a birdhouse where she feels quite at home.  How do people take care of pets?</dc:title>
</cp:coreProperties>
</file>